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7A5E-0699-4DCA-ACC0-89C3868D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360-24DD-4A32-8EAD-443875B0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BC7-8590-4272-B71E-F8EC2FF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F0F-E649-47EA-99F5-4903DC38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F77-DB1C-4842-B6F9-1783D21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68B-6E7B-4CC5-82C8-388D150A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92F-50BF-473D-A5FF-FBA0A2C1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8F8-A70D-4958-8F28-D64F242D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1BF-52DD-4D2E-A34B-A9EB7B5C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D84-C093-4B55-B0E1-F5D4610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FD5-705B-418A-9CE0-43A3A30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458-4233-4B94-B10D-527124C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C32-7830-4834-AEB4-079B463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C1FB-102C-4584-A39C-98FB4508E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11-18T18:18:51Z</dcterms:modified>
  <cp:revision>69</cp:revision>
  <dc:subject/>
  <dc:title>Molecular Genetics</dc:title>
</cp:coreProperties>
</file>